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CE7-4DD8-49D8-BCFC-F5C817DE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23E-BEC3-4CA2-9F87-86CA8B85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F81-217D-4C12-AC6E-51BBD09E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B7A-C555-4596-BD55-314459C2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575-B808-41E0-929E-31923782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5A9-02C4-4B81-B91E-04A28769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AB9-90DD-4998-9B99-84B55839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19D-008E-489E-A905-238B1273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E87-631C-48CE-B909-D2776CFA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98E-DBEF-4072-840C-D4411B9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B3F-D134-47FD-893C-70B5B6D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BB-5496-470C-9186-96803361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2FD1-1723-417D-A8AB-4B191D6F1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77400" y="476280"/>
            <a:ext cx="952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ourront-elles jouer à des 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sali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9560" y="533520"/>
            <a:ext cx="743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eulement si elles porteront de vi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vê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866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uront-elles des corvées à f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3120" y="95400"/>
            <a:ext cx="77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devront passer le balai et r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leurs aff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665280" y="5867280"/>
            <a:ext cx="10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devront-elles obéir aux règ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2560" y="1085760"/>
            <a:ext cx="63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C’est une chose qu’elles doi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apprendre, certain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304920"/>
            <a:ext cx="582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mangero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leurs croûtes de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9600" y="380880"/>
            <a:ext cx="62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Elles les donneront plutôt au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canards du c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89200" y="0"/>
            <a:ext cx="69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Est-ce qu’il y a un légume que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princesses préfèrero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3240" y="594360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aimeront surtout des légumes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40" y="5257800"/>
            <a:ext cx="88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Maman, les princesses porteront-elles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bottes de randoné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937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Les princesses aimeront-elles les boissons pétill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Elles préfèreront une limonade bien rafraîchiss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42600" y="95400"/>
            <a:ext cx="823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Quand les princesses rient, fero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ssez de br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55760" y="95400"/>
            <a:ext cx="58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Oui, même si elles seront bien élevées et po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4160" y="38088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nfleront-elles quand 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dorment, la n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65240" y="17136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i elles ont compté assez de moutons, bien sûr que 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98640" y="451476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-Maman, les princesses sont-elles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peu comme m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1360" y="5638680"/>
            <a:ext cx="84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Pour le savoir, tu dois regarder en miroi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Oui, quand elles iront se prom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362320"/>
            <a:ext cx="71629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800000">
            <a:off x="762120" y="2437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Si ton coeur est heureux, c’est qu’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princesse l’hab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0" y="5791320"/>
            <a:ext cx="94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uleront-elles à vélo, parfo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13600" y="76320"/>
            <a:ext cx="58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Tu parles! Elles adoreront ç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9200" y="533520"/>
            <a:ext cx="762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ourront-elles grimper 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rbres de temps en te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8480" y="5429160"/>
            <a:ext cx="85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N,est-ce pas le meilleur moyen d’être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le 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877680" y="5715000"/>
            <a:ext cx="109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imeront-elles marcher sous la plu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46520" y="6095880"/>
            <a:ext cx="73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Oui, et sauter dans les flaques auss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0:14Z</dcterms:created>
  <dc:creator>CVJH-LAB</dc:creator>
  <dc:description/>
  <dc:language>en-US</dc:language>
  <cp:lastModifiedBy>nield411</cp:lastModifiedBy>
  <dcterms:modified xsi:type="dcterms:W3CDTF">2008-02-26T04:49:48Z</dcterms:modified>
  <cp:revision>14</cp:revision>
  <dc:subject/>
  <dc:title>Slide 1</dc:title>
</cp:coreProperties>
</file>